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419-3149-4174-9399-93010126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857-B44E-41F4-BA0F-5D69CEB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E38-4B80-4F9F-B194-8E930E59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3D2-605E-40E5-9154-CA8DE794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B03-30AC-46D2-AF07-073B4952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42F-CD87-4749-A0DD-CE5CDAA2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58D-5A35-48A1-9C71-9E9833B6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66E-F5B4-42A9-B198-AFDE9B32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69F-1F49-4E1A-9E8C-EFE28C2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33F-1909-4374-AFA4-00741F3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5D4-1565-4094-9DB2-55456D2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B3B-16E8-429C-9EF6-6E45CADE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1CDF-9810-4FF6-BBD8-E10BEE21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outsid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upstairs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insid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earb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looked everywhere for my coa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105520" y="17524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124080" y="25146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267080" y="1295280"/>
            <a:ext cx="35053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2120" y="259092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Mary walked around the building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5257800" y="3429000"/>
            <a:ext cx="21337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8080" y="4648320"/>
            <a:ext cx="754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Soon it will be time to go ho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1523880" y="5410080"/>
            <a:ext cx="16002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Comic Sans MS"/>
              </a:rPr>
              <a:t>downstair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We must leave he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105520" y="17524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24080" y="25146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6172200" y="1600200"/>
            <a:ext cx="1371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62120" y="2209680"/>
            <a:ext cx="7696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The men went upstairs to get the box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5715000" y="2971800"/>
            <a:ext cx="2514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14400" y="4267080"/>
            <a:ext cx="754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have never moved from my ho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3809880" y="5029200"/>
            <a:ext cx="1447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Now we can go to P.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105520" y="17524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124080" y="25146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600200" y="1676520"/>
            <a:ext cx="1143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62120" y="2209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My coat is someplace in the classroom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800600" y="2971800"/>
            <a:ext cx="31240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4267080"/>
            <a:ext cx="754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 it snowed three inch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1752480" y="5029200"/>
            <a:ext cx="28195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neve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Comic Sans MS"/>
              </a:rPr>
              <a:t>everywhere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1:46:16Z</dcterms:created>
  <dc:creator>Missy</dc:creator>
  <dc:description/>
  <dc:language>en-US</dc:language>
  <cp:lastModifiedBy>teacher</cp:lastModifiedBy>
  <dcterms:modified xsi:type="dcterms:W3CDTF">2011-02-07T01:35:47Z</dcterms:modified>
  <cp:revision>4</cp:revision>
  <dc:subject/>
  <dc:title>outside</dc:title>
</cp:coreProperties>
</file>